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A2B-0BC8-4447-8465-DBDFADF3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529-DA8D-4BF6-A3BB-3EFE045A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060-7703-45A0-9B7F-EFB47A32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D89-24F6-491B-9DA9-686406D1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C71-A741-49EB-BD7D-5F6F27AB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D53-FF24-41F8-BFB7-C3A3C1EC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3A6-4D21-4E41-B443-A0E4139E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D9D-5700-41AA-BF7C-2815511A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C77-5501-4DE4-9002-46C764F4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738-5FC2-4790-9DC8-32BB02E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7D0-E60E-414E-A999-29F8528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F60-E27C-4C94-9D32-20499FB3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A7A7-21F6-44A7-BFE8-292059AFF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 au millieu, bien en vue, sur un sapin de Noël géant, ils suspendent des boules de neige, et une étoile, évide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enfants jouent au ballon chasseur et aussi à la &lt;&lt;tag&gt;&gt; glacée. Ils forment de hautes pyramides qui finissent par s’écroul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-3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 une grande table, les mamans posent des gâteries: crème glacée, cornets de neige et autres félices assor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 maintenant, place à la danse! Au rythme endiablé du violon, les bonshommes de neige se mettent en rang et glissent deux par deux sous le p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qu’un fait: &lt;&lt;Chut! Ce sont bien des grelots que j’traîneau du père Noël desc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père Noël ouvre son sac avec de joyeux ho! ho! ho! Il donne des cadeaux de neige et boit du chocolat cha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la tournée n’est pas finie et les rennes s’impatientent. Au coup de sifflet du père Noël, l’attelage s’élance, telle une étoile fil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veille de Noël, j’ai fait un bonhomme de neige vraiment gros et tout souriant. Je l’ai habillé de rouge et de vert, et j’ai décoré de houx son chapeau élég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de gaieté! Que de plaisir! Mais la fête n’est pas encore terminée. Se tenant tous par ;a main, les bonhommes se mettent à osci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 son des clochettes et du violon, ils entonnent de jolis chants qui parlent d’étoiles, de neige et de la naissance d’un enf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enfants tombent de sommeil. Les adultes bâillent à qui mieux mieux. Alors, aux petites heures du matin, les bonhommes de neige rentrent chez 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cun d’eux a repris sa place quand se lève le jour de Noël, mais ces bonshommes tout en neige royonnent d’une joie sans pare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ur beau soourire s’agrandit et leurs yeux se mettent à briller, chaque fois qu’ils repensent au Noël merveilleux qu’ils ont pass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sembait attendre quelque chose. Dans son regard, il y avait comme une étincelle. Je me suis alors demandé si les bonshommes de neige fêtaient Noë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crois que, pendant que je dors en rêvant de cadeaux et de douceurs sucrées, les bonshommes de neige, à la hâte, quittent le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excit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glissent le long des rues enneigées, ornées de guirlandes scintillantes, pendant que la ville sommeille sous une couche de neige brillan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passent devant les magasins aux vitrines illuminées, et s’arrêtent de temps à autre pour contempler les cadeaux expo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ant de partout, les bonshomme de neige se rassemblent.  Ils vont passer le réveillon de Noël au centre-ville, tous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se saluent de la main et se lancent d’heureux bonsoirs. Les amis et la parenté sont si contents de se voi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 bien décorer la place, des bonshommes de neige enjoués accrochent partout des guirlandes et des glaçons argent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1:45Z</dcterms:created>
  <dc:creator>CVJH-LAB</dc:creator>
  <dc:description/>
  <dc:language>en-US</dc:language>
  <cp:lastModifiedBy>nield411</cp:lastModifiedBy>
  <dcterms:modified xsi:type="dcterms:W3CDTF">2008-02-26T04:21:49Z</dcterms:modified>
  <cp:revision>11</cp:revision>
  <dc:subject/>
  <dc:title>Slide 1</dc:title>
</cp:coreProperties>
</file>